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AF0-4EC4-43DF-9872-CC182D47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7B0-7AA0-4FD0-A497-815B598B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2E9-60EA-4AC5-92AC-E2A9CF81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518-8D3E-4AE0-AE6C-561D4EF2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BD63-A33A-4B47-8A36-ED049285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BD7-743D-4D71-85C6-85E780B5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332-A608-4916-BCD9-5D088E0A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C96-1660-4782-AD68-77A9F4E3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60B-A7D5-4E5B-BD56-3B3EFD68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FA6-63EB-4B2C-985E-9F4B4FC9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217-1255-4C69-9F66-B6F0FF20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254-8CDF-4901-83EC-A9A3D881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2848-35A8-4A94-B754-6B22B7E85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Big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T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QUESTION of the WEE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for February 1 - 5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362240" cy="1047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280" y="16765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sa Parks is recognized in black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refusing to give up her seat on a bu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tgomery in 1955.  Mrs. Parks was al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uthor.  What i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 of her memoi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shed in 199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6248520"/>
            <a:ext cx="13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oogle Images, 2010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952880" y="3541680"/>
            <a:ext cx="363564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01:52:30Z</dcterms:created>
  <dc:creator>Brian Hite</dc:creator>
  <dc:description/>
  <dc:language>en-US</dc:language>
  <cp:lastModifiedBy>Brian Hite</cp:lastModifiedBy>
  <cp:lastPrinted>2009-10-05T01:42:40Z</cp:lastPrinted>
  <dcterms:modified xsi:type="dcterms:W3CDTF">2010-02-01T03:40:18Z</dcterms:modified>
  <cp:revision>86</cp:revision>
  <dc:subject/>
  <dc:title>                 The Big6TM QUESTION of the WEEK              for September 15 - 19, 2008</dc:title>
</cp:coreProperties>
</file>